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A5C-2047-462E-A41C-997F4BA25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1AA-DBB7-4AB7-9D3A-198D0BAA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bag.info/chemistry/mcat_biochemistry/4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1F6-96B7-4F56-AA7E-B7FE3067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846-ECC9-44AB-B2ED-810AE01A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F3E5E-638F-4E56-93FA-E682AE709FC2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EABB3-F041-4535-8EF0-4FAD731067E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3C0-2909-4DEA-A9DD-73A3355E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04F1A-97A5-41B8-A5DD-DBFEC253C765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1EF3F-68FF-4872-940A-91236219509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7E9-6BBB-4ED0-B6C8-0D0797BE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60321-24CA-40B4-A6A0-AE57E16D7175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A03F1-B04A-4EC6-98BB-B2EF767E178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AB7D-FCAD-486A-8749-F4343F50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hemistry.about.com/b/2010/11/09/osmotic-pressure-and-tonicity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5E7-9148-4A39-BC12-2453CDC18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su7.org/~lweb/Lakeview/science/sea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4AD9-AA75-48B8-B523-EBFB04AF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7B009-2262-4068-8443-9CC26A06D74C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8CA95-BC44-425D-A376-30BC5F6E7B9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2D87-4008-4336-BBA0-78CDAFDA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D851-E363-4A7C-99E8-9CF6D4C5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2A3-A3CB-4B29-B367-7E072BFE5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hebasisoflife.wikispaces.com/Membrane+Structure+and+Funct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6852-F8E4-4E8D-9FF9-42240FE8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AE3-0ED0-490F-A7AF-87E3552E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3053-32BE-4676-B16A-C7F7832D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viddarling.info/encyclopedia/A/active_transpor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BC02-C290-443F-BD7B-4843A5A7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pbrwww5.apsu.edu/thompsonj/Anatomy%20&amp;%20Physiology/2010/2010%20Exam%20Reviews/Exam%201%20Review/Ch03%20Active%20Transpo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FD1-1CD0-4CE1-87A5-13EF866E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76D-D09C-40E4-98A1-C9803116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entsimmons.uwinnipeg.ca/cm1504/membranefunction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EE1-1F03-4F7A-9648-550D0E09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C004535/molecule_transport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B5B-E58A-4109-B5BF-FE165F2F1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40BA-D47A-4C9D-94BD-1DBC25AD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DD43-7648-4256-9369-C92C5011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rditobook.pbworks.com/w/page/11348839/Diffus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4alevel.blogspot.ca/2014/09/25-passive-and-active-transport-acro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on-polar molecules (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eroid hormones, some drugs) and small polar molecules 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, glyce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255-DFB0-4AF6-A824-58A52D20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F556-5734-4952-883D-A7CC2F45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biology4alevel.blogspot.ca/2014/09/25-passive-and-active-transport-acros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0F5-A3C4-471C-80E2-4A2CC472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quora.com/How-do-carrier-proteins-transport-specific-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4AED-85C2-4A10-A15A-2D79C823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9BFE-4D69-4648-815F-F0775EF09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D03-D38B-4C1C-93D6-7E2A861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ABF-3FCF-4411-B3A9-890B901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212-2741-4BB3-8129-439616CA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D7A-4BC7-4A5E-90F5-ECA86643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5A6-34B2-493C-8C40-932ECAF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5A9-54EF-40FD-AE2A-A14C7A96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C54-173F-4728-BD23-7BBC6DF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062-8833-4FEB-ABB1-996ED48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3A9-C7C3-48AE-8A4D-BA8BAA2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5E8-C6CB-455B-A839-27817F0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6C9-CF67-4CCE-B35D-1699B18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C0B-3E9C-437C-955B-BC3AA25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2A31-5C34-487A-A7EB-EF8BE4793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osmosis changes depending on type of solution surrounding the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53BA-B3BD-4482-95D1-57861998EF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219320" y="1447920"/>
            <a:ext cx="579096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1523880" y="16002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ell is at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58128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0384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662940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NE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4D2-86DD-474B-9378-58305125EA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58672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B60-B071-4D3C-B2D5-ECD4B4F2FE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91440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7339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and Ton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osmotic-pressure-blood-cells"/>
          <p:cNvPicPr/>
          <p:nvPr/>
        </p:nvPicPr>
        <p:blipFill>
          <a:blip r:embed="rId1"/>
          <a:stretch/>
        </p:blipFill>
        <p:spPr>
          <a:xfrm>
            <a:off x="685800" y="200340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ells"/>
          <p:cNvPicPr/>
          <p:nvPr/>
        </p:nvPicPr>
        <p:blipFill>
          <a:blip r:embed="rId1"/>
          <a:stretch/>
        </p:blipFill>
        <p:spPr>
          <a:xfrm>
            <a:off x="685800" y="23749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9CB-1939-431F-AC3F-8090F3DAB5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611280" y="2743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06760" y="27432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783120" y="26668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4960" y="5410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887640" y="5410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554880" y="54864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imp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-celled organism living in a  freshwater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-celled organism living in a salt-water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s of a plant in the spring after salt has been sprinkled during the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pplic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n’t you water a plant with salt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in the grocery store get sprayed with water periodically.  What would happen if they were sprayed with salt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c8x16types-transport"/>
          <p:cNvPicPr/>
          <p:nvPr/>
        </p:nvPicPr>
        <p:blipFill>
          <a:blip r:embed="rId1"/>
          <a:stretch/>
        </p:blipFill>
        <p:spPr>
          <a:xfrm>
            <a:off x="1697040" y="198108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ake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environment &amp;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 entry of harmfu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200280" y="-103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materi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ellular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s move positively charged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ros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chemical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ctive_transport"/>
          <p:cNvPicPr/>
          <p:nvPr/>
        </p:nvPicPr>
        <p:blipFill>
          <a:blip r:embed="rId1"/>
          <a:stretch/>
        </p:blipFill>
        <p:spPr>
          <a:xfrm>
            <a:off x="4343400" y="2514600"/>
            <a:ext cx="419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gradient established by a primary active transport p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uni-sym-antiport"/>
          <p:cNvPicPr/>
          <p:nvPr/>
        </p:nvPicPr>
        <p:blipFill>
          <a:blip r:embed="rId1"/>
          <a:stretch/>
        </p:blipFill>
        <p:spPr>
          <a:xfrm>
            <a:off x="1784520" y="3352680"/>
            <a:ext cx="557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larger substances across a cellul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ytosis &amp; endocy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Image135"/>
          <p:cNvPicPr/>
          <p:nvPr/>
        </p:nvPicPr>
        <p:blipFill>
          <a:blip r:embed="rId1"/>
          <a:stretch/>
        </p:blipFill>
        <p:spPr>
          <a:xfrm>
            <a:off x="2209680" y="1701720"/>
            <a:ext cx="4584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exocytosis"/>
          <p:cNvPicPr/>
          <p:nvPr/>
        </p:nvPicPr>
        <p:blipFill>
          <a:blip r:embed="rId1"/>
          <a:stretch/>
        </p:blipFill>
        <p:spPr>
          <a:xfrm>
            <a:off x="1949400" y="1981080"/>
            <a:ext cx="52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29000" y="233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#10, 11, 12, and 15 taken from Powerpoint presentations created by Cheryl Massengale, educator &amp; creator of http://www.biologyjunc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materials across the cell membrane without the use of chemical energy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is due to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movement of a substance from an ar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area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ntration until a stat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626px-Simple_difussion_in_cell_membrane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plant transport.png"/>
          <p:cNvPicPr/>
          <p:nvPr/>
        </p:nvPicPr>
        <p:blipFill>
          <a:blip r:embed="rId1"/>
          <a:srcRect l="-20137" t="0" r="-2013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s move un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non-polar molecules, small uncharged pol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molecules &amp; ions nee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l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6" descr="cell membrane 1.png"/>
          <p:cNvPicPr/>
          <p:nvPr/>
        </p:nvPicPr>
        <p:blipFill>
          <a:blip r:embed="rId1"/>
          <a:srcRect l="0" t="-3620" r="0" b="-362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across membrane assisted by integral membrane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nel protei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hydrophilic pathways for water &amp; ions;  ion channels are usually voltage-g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ually have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3" descr="main-qimg-90d2bd9826c0a407e5226d2c19c3f2a5-c.jpeg"/>
          <p:cNvPicPr/>
          <p:nvPr/>
        </p:nvPicPr>
        <p:blipFill>
          <a:blip r:embed="rId1"/>
          <a:srcRect l="-4777" t="0" r="-477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usion of water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ollows concentration gradient until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osmosis"/>
          <p:cNvPicPr/>
          <p:nvPr/>
        </p:nvPicPr>
        <p:blipFill>
          <a:blip r:embed="rId1"/>
          <a:stretch/>
        </p:blipFill>
        <p:spPr>
          <a:xfrm>
            <a:off x="464832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7-02-27T14:33:03Z</dcterms:modified>
  <cp:revision>215</cp:revision>
  <dc:subject/>
  <dc:title>PowerPoint Presentation</dc:title>
</cp:coreProperties>
</file>